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53A8-7ED2-4B7C-9740-37BEF73F9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604440"/>
            <a:ext cx="5486400" cy="77835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onozca que los grupos de apoyo son un recurso muy valioso con múltiples beneficios. En los grupos de apoyo los participantes comparten, se apoyan los unos a los otros, y aprenden más sobre el problema que están enfrentando. Aprenden como superar dificultades existentes y como prevenir frustraci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upongamos que usted desea llevar a cabo este proyecto. Desarrolla un plan para comenzar un grupo de apoyo para individuos y familias que están afectadas por el HIV/S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desarrollo exitoso para conseguir recursos y fondos comienza c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Orac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vis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plan bien pensado, 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enefactor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uerde, esta es una oportunidad para construir lazos de cooperación. ¿Quiénes pueden ayu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édicos, enfermeras, trabajadores sociales, y los directores de programas de acción social frecuentemente estarán dispuestos a colaborar con programas comuni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educadores comunitarios de los hospit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ateriales e información del Ministerio de Acción Social y Salud del estad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dispensarios loc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iglesia, una biblioteca pública, un salón comunitario, o una escuela pueden proveer el espacio necesario para desarrollar las 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 su iglesia puede conseguir un coordinador voluntario y algo para servir (refrescos,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ra hacer la propaganda, pida a cada participante o colaborador que pasen el anuncio a sus boletines informativos, carteleras, y otros métodos de comunicación que ellos utilicen normalmen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inalmente, encuentre alguien de su iglesia que sea el coordinador voluntario para servir los refrescos y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usque recursos que la ayuden a alcanzar las metas propuestas por sus ministerios. Hay tres aproximaciones que pueden facilitar la última selección de recursos posib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temática  identifica los recursos que tienen que ver con un tema específico como salud, educación, o mujeres y niñ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geográfica identifica recursos que proveen servicios o fondos en una ciudad particular, una provincia, o región. Estos recursos podrían abarcar fondos que se donen regionalmente, nacionalmente, o internacionalmente. Cuando se recauda dinero, la mayoría de las fundaciones y corporaciones limitan sus fondos para un área geográfica específic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de apoyo identifica recursos que provean una clase particular de apoyo como: aumentar el capital existente, cubrir gastos operacionales, o dinero para nuevos proyec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5. </a:t>
            </a:r>
            <a:r>
              <a:rPr b="0" lang="es-ES" sz="900" spc="-1" strike="noStrike">
                <a:solidFill>
                  <a:srgbClr val="000000"/>
                </a:solidFill>
                <a:latin typeface="Times New Roman"/>
              </a:rPr>
              <a:t>	</a:t>
            </a:r>
            <a:r>
              <a:rPr b="0" lang="es-ES" sz="900" spc="-1" strike="noStrike">
                <a:solidFill>
                  <a:srgbClr val="000000"/>
                </a:solidFill>
                <a:latin typeface="Times New Roman"/>
              </a:rPr>
              <a:t>Desarrolle un formulario que se llamará: Banco de datos para conseguir recursos. Este formulario ayudará a seguir todo el proceso. El formulario incluirá: a)Servicio que se proveerá, b)Recursos, c) Columna para comen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te listado se irá desarrollando al hablar con la gente, al caminar a través de su ciudad o comunidad, escuchar y ver propagandas, leer acerca de desarrollos en la sección de referencias de la biblioteca local, leer los diarios regionales y locales, y navegando por intern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Investigue, esté vigilante, y atenta para encontrar recursos que podrá necesitar al desarrollar los proyectos de los Ministerios de la Mujer en su comunid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Servicios o comodidad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u="sng">
                <a:solidFill>
                  <a:srgbClr val="000000"/>
                </a:solidFill>
                <a:uFillTx/>
                <a:latin typeface="Times New Roman"/>
              </a:rPr>
              <a:t>Recurs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provist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pacio donado para</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Bibliotecas, escuelas, coleg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grama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universidades, salas de conferencia en hospitales locales y clínicas, centros comunitarios, iglesi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paganda de programas</a:t>
            </a:r>
            <a:r>
              <a:rPr b="0" lang="es-ES" sz="900" spc="-1" strike="noStrike">
                <a:solidFill>
                  <a:srgbClr val="000000"/>
                </a:solidFill>
                <a:latin typeface="Times New Roman"/>
              </a:rPr>
              <a:t>	</a:t>
            </a:r>
            <a:r>
              <a:rPr b="0" lang="es-ES" sz="900" spc="-1" strike="noStrike">
                <a:solidFill>
                  <a:srgbClr val="000000"/>
                </a:solidFill>
                <a:latin typeface="Times New Roman"/>
              </a:rPr>
              <a:t>Servicio público de anuncios en la radio y </a:t>
            </a:r>
            <a:r>
              <a:rPr b="0" lang="es-ES" sz="900" spc="-1" strike="noStrike">
                <a:solidFill>
                  <a:srgbClr val="000000"/>
                </a:solidFill>
                <a:latin typeface="Times New Roman"/>
              </a:rPr>
              <a:t>	</a:t>
            </a:r>
            <a:r>
              <a:rPr b="0" lang="es-ES" sz="900" spc="-1" strike="noStrike">
                <a:solidFill>
                  <a:srgbClr val="000000"/>
                </a:solidFill>
                <a:latin typeface="Times New Roman"/>
              </a:rPr>
              <a:t>en la TV, diarios locales, carteleras en lugares públic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Voluntari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Otras iglesias, clubes cívicos como el </a:t>
            </a:r>
            <a:r>
              <a:rPr b="0" lang="es-ES" sz="900" spc="-1" strike="noStrike">
                <a:solidFill>
                  <a:srgbClr val="000000"/>
                </a:solidFill>
                <a:latin typeface="Times New Roman"/>
              </a:rPr>
              <a:t>	</a:t>
            </a:r>
            <a:r>
              <a:rPr b="0" lang="es-ES" sz="900" spc="-1" strike="noStrike">
                <a:solidFill>
                  <a:srgbClr val="000000"/>
                </a:solidFill>
                <a:latin typeface="Times New Roman"/>
              </a:rPr>
              <a:t>Rotary Club o el Club de le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onacion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Muchos negocios proveerán productos que pueden utilizarse en los diferentes program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galos para retir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Librerías cristianas o seculares, bancos, hoteles, florerías, compañías de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inero</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A través del departamento de mayordomía, incentivar donaciones sobre una base regular planificada. Donacione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gubernamentales, proyectos para recaudar fondos como ser concier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anco de ropa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Donaciones particulares, donaciones de tiendas locales, fardos donados por ADRA </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685800" y="906120"/>
            <a:ext cx="5486400" cy="74818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truyamos un listado que sirva como Banco de datos para conseguir recursos utilizando una aproximación diferente. Dele un nuevo vistazo a los recursos disponibles en su comunidad. Más abajo hay ejemplos acerca de las clases de servicios que usted podría esperar que sean otorgados por estas entidades. Recuerde, los recursos incluyen mucho más que dine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curso</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Servicio provis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spitales y dispensario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tección temprana y servicios de análisis y radiograf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cuidado de la salud y grupo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auspici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ntrenamiento profesional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artamento regional de salud </a:t>
            </a:r>
            <a:r>
              <a:rPr b="0" lang="es-ES" sz="1200" spc="-1" strike="noStrike">
                <a:solidFill>
                  <a:srgbClr val="000000"/>
                </a:solidFill>
                <a:latin typeface="Times New Roman"/>
              </a:rPr>
              <a:t>	</a:t>
            </a:r>
            <a:r>
              <a:rPr b="0" lang="es-ES" sz="1200" spc="-1" strike="noStrike">
                <a:solidFill>
                  <a:srgbClr val="000000"/>
                </a:solidFill>
                <a:latin typeface="Times New Roman"/>
              </a:rPr>
              <a:t>Inmuniz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guridad ambi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ducación comunitar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sión de mujer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cursos locales de muje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onferenci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eriódicos informativos sobre salud o de recursos de ampa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encias gubernament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bergu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soci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elas, Colegios, Universidades</a:t>
            </a:r>
            <a:r>
              <a:rPr b="0" lang="es-ES" sz="1200" spc="-1" strike="noStrike">
                <a:solidFill>
                  <a:srgbClr val="000000"/>
                </a:solidFill>
                <a:latin typeface="Times New Roman"/>
              </a:rPr>
              <a:t>	</a:t>
            </a:r>
            <a:r>
              <a:rPr b="0" lang="es-ES" sz="1200" spc="-1" strike="noStrike">
                <a:solidFill>
                  <a:srgbClr val="000000"/>
                </a:solidFill>
                <a:latin typeface="Times New Roman"/>
              </a:rPr>
              <a:t>Voluntarios para programas </a:t>
            </a:r>
            <a:r>
              <a:rPr b="0" lang="es-ES" sz="1200" spc="-1" strike="noStrike">
                <a:solidFill>
                  <a:srgbClr val="000000"/>
                </a:solidFill>
                <a:latin typeface="Times New Roman"/>
              </a:rPr>
              <a:t>	</a:t>
            </a:r>
            <a:r>
              <a:rPr b="0" lang="es-ES" sz="1200" spc="-1" strike="noStrike">
                <a:solidFill>
                  <a:srgbClr val="000000"/>
                </a:solidFill>
                <a:latin typeface="Times New Roman"/>
              </a:rPr>
              <a:t>comuni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spacio para programas y proyect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técnica para desarroll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Becas educacional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lase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bliotec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Fuente de información de recursos en la 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Tutor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des de inform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az, tranquilidad, ambiente relajan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 social</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Información y referen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mpleos y entrenamien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emergenc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anti droga y alcoho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jubila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s loc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imentos, ropas, albergu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n emergenci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uidado espiritu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min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lubes cívicos y organiz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ducativa, bec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tutorí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nriquecimiento a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mbellecimiento de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onaciones, servicios volun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Corpor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gratuitos, Asistencia técnica, becas, costos operatorios, proyectos especial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NSEGUIR DONACIONES PARA SU COMUNIDAD (RP-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La búsqueda electrónica es la forma más rápida de encontrar donaciones o subvenciones que ayuden a enfrentar su misión en la comunidad. Si usted no tiene este recurso, pida un voluntario que le ayude a investigar para obten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www.google.com para conseguir donaciones internacionales. Busque con frases tales como (“grants for international programs”) “becas para programas internacionales” y encontrará muchas opciones para investig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sitio internacional es www.tgci.com go to Funding Sources y entonces entre a International Funding.. Usted encontrará una gran cantidad de información en relación a donaciones provistas para África, Europa, América Central, Canadá, el Cercano Oriente y la mayoría de los países del mundo. Este tipo de sitios provee entrenamiento e información sobre cómo desarrollar recurs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os sitios electrónicos relacionados con información en relación con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wsp.org Global directory of Health Information Resources (Directorio global de información sobre recursos de sal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iav.nl/knowhow/index.html Womeńs Information and Resource Service (Servicio de información y recursos de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rhgateway.org Reproductive Health Gateway: One-Stop Search Site (Portal de Salud en la reproducción) </a:t>
            </a:r>
            <a:r>
              <a:rPr b="1" lang="es-ES" sz="1200" spc="-1" strike="noStrike">
                <a:solidFill>
                  <a:srgbClr val="000000"/>
                </a:solidFill>
                <a:latin typeface="Times New Roman"/>
              </a:rPr>
              <a:t>(RP-7)</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t>
            </a:r>
            <a:r>
              <a:rPr b="0" lang="en-US" sz="900" spc="-1" strike="noStrike">
                <a:solidFill>
                  <a:srgbClr val="000000"/>
                </a:solidFill>
                <a:latin typeface="Times New Roman"/>
              </a:rPr>
              <a:t>	</a:t>
            </a:r>
            <a:r>
              <a:rPr b="0" lang="es-ES" sz="1000" spc="-1" strike="noStrike">
                <a:solidFill>
                  <a:srgbClr val="000000"/>
                </a:solidFill>
                <a:latin typeface="Times New Roman"/>
              </a:rPr>
              <a:t>Guías impresas para ayudar con la búsqueda de donaciones en su comunidad. Pida a su bibliotecario ayuda para localizar estos libros si no los encuentra en su biblioteca loc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lanagan, Joan. The Grassroots Fundraising Book, 1982. Contemporary Books, Inc. Chicago, Illino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rtley, Cathy (ed.) The International Foundation Directory, 2001. London: Europa Publica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ils, Michael (ed.) World Guide to Foundations, 2nd ed. Munich: K. G. Saur,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aniguchi, Jason (ed.) Canadian Directory to Foundations and Grants, 16th ed. Toronto: Canada for Philanthropy,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r>
              <a:rPr b="0" lang="es-ES" sz="1000" spc="-1" strike="noStrike">
                <a:solidFill>
                  <a:srgbClr val="000000"/>
                </a:solidFill>
                <a:latin typeface="Times New Roman"/>
              </a:rPr>
              <a:t>La (Fundación) Center's Guide to Funding for International and Foreign Programs puede ser útil para aquellas que están buscando donaciones de fundaciones u organizaciones  de Estados Unidos y/o programas de ayuda localizados fuera de los EstadosUnidos.  La Guía incluye un ídice geográfico de países y regiones del mundo como también un índice por áreas donde usted puede buscar el término que describe su organización de programa o servicio.”  (The Foundation Center, FAQ)</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res oportunidades anuales de donaciones (Adelante, pruebe un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 www.unhchr.ch Las Naciones Unidas para apoyar programas educativos en relación a los derechos human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 www.femmesetvilles.org Women's Safety Awards promueve buenas reglamentos y prácticas de seguridad relacionadas con las mujeres. Estoas premios se conceden cada año a los casos mejor defendidos las mejores leyes o prácticas de defensa en prevención del crimen y de la seguridad de las muje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 Computer Aid International dona computadoras de segunda mano Pentium, re acondicionadas para Organizaciones comunitarias de los países en vías de desarrol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tactarse con Roberts, Computer Aid International, +44 (0) 207 281 0091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LA INFORMACIÓN REUNIDA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cer conta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Establecer el contacto inicial con los recursos que usted haya identificado. Antes de invertir un montón de tiempo, sería conveniente saber si ellos están interesados en ayudar con proyectos tales como los que usted está planificando. Revise sus reglamentos, informes anuales y proyectos para los cuales han ayudado en el pasado. Comuníquese por internet para obtener información, escriba una carta o solicitar simplemente folletos con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lang="es-ES" sz="1200" spc="-1" strike="noStrike">
                <a:solidFill>
                  <a:srgbClr val="000000"/>
                </a:solidFill>
                <a:latin typeface="Times New Roman"/>
              </a:rPr>
              <a:t>Cuando usted haya determinado que una fuente de recursos en particular está interesada en proyectos similares al proyecto que desea desarrollar, escriba una carta para averiguar más bien que una propuesta completa. Esta carta para pedir información le servirá para presentarse y para introducir su proyecto. Debiera ser corta (de  no más de dos páginas), aunque clara y debiera dirigirse a una persona en particular. La carta para obtener información debiera ser enviada por correo regul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s-ES" sz="1200" spc="-1" strike="noStrike">
                <a:solidFill>
                  <a:srgbClr val="000000"/>
                </a:solidFill>
                <a:latin typeface="Times New Roman"/>
              </a:rPr>
              <a:t>La carta para obtener información debiera incl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ntroducción</a:t>
            </a:r>
            <a:r>
              <a:rPr b="0" lang="es-ES" sz="1200" spc="-1" strike="noStrike">
                <a:solidFill>
                  <a:srgbClr val="000000"/>
                </a:solidFill>
                <a:latin typeface="Times New Roman"/>
              </a:rPr>
              <a:t>: es un resumen que incluye quién es usted, una descripción del proyecto, y cómo está planeando resolver el problema, qué es lo que la califica, un cronograma de su proyecto y la cantidad que está solicit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escripción de su organización</a:t>
            </a:r>
            <a:r>
              <a:rPr b="0" lang="es-ES" sz="1200" spc="-1" strike="noStrike">
                <a:solidFill>
                  <a:srgbClr val="000000"/>
                </a:solidFill>
                <a:latin typeface="Times New Roman"/>
              </a:rPr>
              <a:t>: se relaciona específicamente con su ministerio local de la mujer. Aquí, proveerá una breve historia y descripción de su programa actual y de la habilidad para suplir las necesidades que usted está describ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declaración de la necesidad</a:t>
            </a:r>
            <a:r>
              <a:rPr b="0" lang="es-ES" sz="1200" spc="-1" strike="noStrike">
                <a:solidFill>
                  <a:srgbClr val="000000"/>
                </a:solidFill>
                <a:latin typeface="Times New Roman"/>
              </a:rPr>
              <a:t>: debe mostrar cuán importante es la necesidad que usted está presentando. Mencione el grupo particular de gente que se beneficiará con su proyecto, ubicación geográfica de la gente a la que servirán, cómo su proyecto contribuirá para ayudar a la gente. Como líder, debe creer que la necesidad es grande y debe estar convencida de que podrá jugar un papel decisivo para suplir es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plique el método que usará</a:t>
            </a:r>
            <a:r>
              <a:rPr b="0" lang="es-ES" sz="1200" spc="-1" strike="noStrike">
                <a:solidFill>
                  <a:srgbClr val="000000"/>
                </a:solidFill>
                <a:latin typeface="Times New Roman"/>
              </a:rPr>
              <a:t> al solucionar la necesidad que haya identificado. El método debe ser accesible, las metas alcanzables con un cronograma establecido y las herramientas de evaluación que usará para medir la efectividad de su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abore una breve declaración que incluya otras fuentes de recursos y apoyo</a:t>
            </a:r>
            <a:r>
              <a:rPr b="0" lang="es-ES" sz="1200" spc="-1" strike="noStrike">
                <a:solidFill>
                  <a:srgbClr val="000000"/>
                </a:solidFill>
                <a:latin typeface="Times New Roman"/>
              </a:rPr>
              <a:t>. Nadie desea ser el único benefactor que proveerá voluntarios, equipo, instalaciones, o dinero para el proyecto. Recuerde de dar crédito a los voluntarios de su grupo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é segura de registrar las respuestas positivas en su carpeta de archivo del Banco de datos de recursos. Cuando se la invite a presentar una propuesta completa, envíe cada detalle que se le solici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PLICACIÓN PRÁCTICA (RP-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sted a reunido un equipo. Ha decidido el proyecto que desean desarrollar. Ha completado el plan de estrategias a seguir. Cuenta con varias perspectivas para reunir fondos y su Banco de datos de recursos en frente suyo. Haga una lista de los recursos que necesita y ¡Comience sus contact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jemp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memos el ejemplo del grupo de apoyo para HIV/SIDA. Seamos más específicas esta vez y digamos que estamos desarrollando un grupo de apoyo para mujeres que han sido diagnosticadas con HIV/SIDA. Los componentes incluyen: compartir, apoyar, información, y referenc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a posible lista podría ser la siguiente: (podrá añadir lo que crea convenien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grupo de voluntarios de apoy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pacio con sillas para la reunión mens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tas y boletines para dar a conocer la activida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ersonas que presenten los distintos tem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teriales educativos para que lleven a sus hogar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ebidas, quizás agua fresca para servi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directorio con referencias de los servicios públicos de ayuda al S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ocaditos y pequeños regalos para la celebración y alabanza de fin de añ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ondos para ofrecer un test gratuito de HIV/SIDA para los miembros de las famil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este seminario hemos hecho muchas listas. Esta es la última lista y muestra exactamente lo que usted necesita para el proyecto específico que está planeando. La Hoja de trabajo y el Banco de datos de recursos son referencias personalizadas fáciles de encontrar que usted continuará manteniendo al día.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ERRE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mos para que Dios nos guíe en el camino que él quiere para nosotras, porque él es un Dios todopoderoso, el autor de “toda buena dádiva y todo don perfecto ...” Santiago 1:17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LOS PROYECTOS DE LOS MINISTERIOS DE LA MUJER?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as mujeres les gusta comprar, luego de haber buscado lo que desean en diferentes negocios. Algunas hacen una lista de cosas específicas que desean comprar. Otras salen de compras, sabiendo lo que están buscando y generalmente tienen una necesidad específica para las cosas que van a comprar. Estas mujeres quizás compren un par de sandalias porque las necesitan y mientras compran las sandalias podrían encontrar una cartera que les combina perfectamente y complementa las sandal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mismo se aplica cuando buscamos recursos en la comunidad. Estamos buscando un recurso específico para suplir una necesidad específica. De paso, podríamos encontrar recursos de los cuales desconocíamos su existencia, pero nos ayudan a suplir una necesidad o a complementar un programa ya ex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urante este seminario saldremos de “compras” para buscar recursos, para mirar alrededor y ver que hay por allí. También haremos compras “intencionales” de recurso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DONDE COMENZAMOS? (RP-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encemos con una comprensión de los diferentes tipos de recursos. Se utiliza a menudo el término para indicar el dinero como recurso primario. Sin embargo, los recursos incluyen cualquier cosa a la cual uno puede recurrir por ayuda o apoyo para llevar a cabo su propósi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ecursos que pueden ser de ayuda, apoyo, o asistencia para que los Ministerios de la Mujer puedan llevar a cabo sus metas, incluy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s-ES" sz="1200" spc="-1" strike="noStrike">
                <a:solidFill>
                  <a:srgbClr val="000000"/>
                </a:solidFill>
                <a:latin typeface="Times New Roman"/>
              </a:rPr>
              <a:t>Entonces, fíjese en las necesidades de las mujeres a las cuales usted está sirviendo en su iglesia y comunidad. Para hacer esto, examine los resultados de sus estudios para determinar las necesidades; de ambas, la comunidad y su iglesia. Haga una lista de las necesidades que han sido identificadas. Póngalas en orden de prioridad. ¿Qué necesidades son las más importantes en la l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Distribuya la lista en categorías como ser salud, educación, hospedaje, oportunidades de crecimiento espiritual, sistemas de apoyo, recursos de amparo relacionados con las mujer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na vez que ha completado su lista, haga una segunda lista de las organizaciones u otras entidades que tienen experiencia o responsabilidad por las áreas que usted ha identifi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s de dos lista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ne claro el panorama.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Revise los resultados de su Encuesta a la comunidad (comenten los resultados previamente en un seminario para líderes). Qué servicios existentes se ofrecen en su área? ¿Cuáles son sus lineamientos de programa? ¿Cuáles son los criterios de selección ? ¿Cuáles son sus reglamentos referenciales? ¿Cuáles son los costos de sus servicios? ¿Cuán accesibles son estos servicios en términos de transpo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tiene en sus manos una tercera lista. Compare la lista de posibles recursos, con la lista real de servicios existentes en su comunidad. Remplace la lista “posible” por la lista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le surgirá la pregunta, ¿Porqué hacer una lista de recursos posibles en primer lugar? Porque, el pensar en posibilidades, nos ayuda a detectar recursos en la comunidad que de otra manera podríamos haber pasado por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Compare su encuesta de necesidades con su lista real de recursos comunitarios. Podría suceder que no encuentre servicios accesibles para las necesidades identificadas por la encuesta. Tome nota de esto, usted puede llegar a proveer el recurs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SUPLIR LAS NECESIDADES IDENTIFICAD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enzar su búsqueda, recuerde que las donaciones que pueda recibir de distintos individuos, podrían conformar el mayor monto de contribuciones caritativas. Muchas veces la mayoría de las donaciones se dan para instituciones religiosas, de salud y educa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Determine las fuentes de recursos dentro de su congregación. No le pida a otra gente de la comunidad lo que usted pueda hacer con los recursos que tiene a disposición en el círculo de los miembros de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inventario de miembros en su congregación. ¿Qué habilidades poseen que puedan ayudar a suplir las necesidad expresadas en las encuestas? ¿Cómo puede utilizar esos tal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 de encuest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r un buen padre</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l Ministerio de l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stimenta para la familia</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 OFASA, Dor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rPr>
              <a:t>Construya recursos con participantes de la comunidad. Aunque podamos contar con mucha gente talentosa en la congregación, no podemos proveer para cada necesidad de servicios que surjan, o responder a cada pedido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conocimiento de los recursos obtenibles en la comunidad es crucial porque esto le permitirá estar mejor equipada para identificar a otros que podrán cooperar para dar una respuesta más efectiva a las necesidades identificadas. Al hablar del desarrollo de recursos nos referimos a colaboración, redes de trabajo, y coope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encuestas</a:t>
            </a:r>
            <a:r>
              <a:rPr b="0" lang="es-ES" sz="1200" spc="-1" strike="noStrike">
                <a:solidFill>
                  <a:srgbClr val="000000"/>
                </a:solidFill>
                <a:latin typeface="Times New Roman"/>
              </a:rPr>
              <a:t>	</a:t>
            </a:r>
            <a:r>
              <a:rPr b="0" lang="es-ES" sz="1200" spc="-1" strike="noStrike" u="sng">
                <a:solidFill>
                  <a:srgbClr val="000000"/>
                </a:solidFill>
                <a:uFillTx/>
                <a:latin typeface="Times New Roman"/>
              </a:rPr>
              <a:t>Colab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puedo leer bien</a:t>
            </a:r>
            <a:r>
              <a:rPr b="0" lang="es-ES" sz="1200" spc="-1" strike="noStrike">
                <a:solidFill>
                  <a:srgbClr val="000000"/>
                </a:solidFill>
                <a:latin typeface="Times New Roman"/>
              </a:rPr>
              <a:t>	</a:t>
            </a:r>
            <a:r>
              <a:rPr b="0" lang="es-ES" sz="1200" spc="-1" strike="noStrike">
                <a:solidFill>
                  <a:srgbClr val="000000"/>
                </a:solidFill>
                <a:latin typeface="Times New Roman"/>
              </a:rPr>
              <a:t>Escuela nocturna y la 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a iglesia puede proveer voluntarios para ayudar a aprender a leer y escribir en la escuela nocturna local. La escuela provee un ambiente que favorece el aprendizaje  como también puede proveer los materiales. Busque en su país o comunidad, las entidades que reciban donaciones para alfabetizar; la comunidad podrá beneficiarse si ambas entidades; la iglesia y la escuela, pueden construir un programa más estable y efi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lang="es-ES" sz="1200" spc="-1" strike="noStrike">
                <a:solidFill>
                  <a:srgbClr val="000000"/>
                </a:solidFill>
                <a:latin typeface="Times New Roman"/>
              </a:rPr>
              <a:t>Busque qué deficiencias de servicios se presentan en su comunidad. Al repasar las necesidades identificadas y la oferta de servicios ¿Cuáles son las necesidades no suplidas? Ese es nuestro desafío. Encontrar recursos para suplir las necesidades que aún no están cubiertas por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la encuesta</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Recursos no identific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o ayuda porque padezco HIV/SID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98CFA-D939-4BEB-99C3-4340A1AAA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91809-DA0C-4F75-B949-DE4EC231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DF0BD-C68D-4C4D-A32D-8E4790E63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F30E4-A696-4A68-962E-19327C6D7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C0DFC-FB31-46E8-8A6D-F2D1FF20D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7D32D-44AC-4877-834C-909CD7532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2C8B9-D6A3-4E17-BCB2-8214B7F61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9CC34-BD55-4DED-9DE2-EB9B0943C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025CB-E098-4758-96B1-72F14EA30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6CF6E-97E3-4280-9D8B-5B30B9C2B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0B5FA-F821-46E2-8E80-F231DACC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CEED1-0346-4926-976E-1630CAB0D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494A8-84D0-4872-8178-4EB47C21A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67C7C-CBFD-4223-96B4-0FFC1841B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D41B7-C822-4B62-9D13-69D23EE7D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27167-70E9-455C-91A4-F980FAFCF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274C3-E83D-4823-A151-2E54BCCBD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0414F-E072-49B7-88FB-51EB4B526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27BFF-AD6A-4E45-B671-DB8648DCE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B368-BFEF-48A5-A48A-18D284E0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8D2F7-76AB-437B-9C61-1DED5748D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74A1-D6F3-45DA-B5ED-B850BE264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6B174-C5A1-4348-984E-3B0957FBE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83DBF-EF6C-435D-9EC6-857F38E02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5592-9F6C-4BA7-994B-A5BA7E067484}"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C2DB-2907-4D2F-8B3E-B5BEC8D82DF5}"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1760" y="3962160"/>
            <a:ext cx="6933960" cy="23619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Por</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Minnie McNeil</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Certificación de liderazgo 2</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Asociación General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Departamento del Ministerio de la Mujer</a:t>
            </a:r>
            <a:endParaRPr b="0" lang="en-US" sz="20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1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457200"/>
            <a:ext cx="731520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patrocinadores para su comunidad?</a:t>
            </a:r>
            <a:endParaRPr b="0" lang="en-US" sz="3600" spc="-1" strike="noStrike">
              <a:solidFill>
                <a:srgbClr val="594717"/>
              </a:solidFill>
              <a:latin typeface="Impact"/>
            </a:endParaRPr>
          </a:p>
        </p:txBody>
      </p:sp>
      <p:sp>
        <p:nvSpPr>
          <p:cNvPr id="122" name="PlaceHolder 2"/>
          <p:cNvSpPr>
            <a:spLocks noGrp="1"/>
          </p:cNvSpPr>
          <p:nvPr>
            <p:ph type="subTitle"/>
          </p:nvPr>
        </p:nvSpPr>
        <p:spPr>
          <a:xfrm>
            <a:off x="456840" y="2286000"/>
            <a:ext cx="8458200" cy="4038480"/>
          </a:xfrm>
          <a:prstGeom prst="rect">
            <a:avLst/>
          </a:prstGeom>
          <a:noFill/>
          <a:ln w="0">
            <a:noFill/>
          </a:ln>
        </p:spPr>
        <p:txBody>
          <a:bodyPr lIns="90000" rIns="90000" tIns="46800" bIns="46800" anchor="t">
            <a:noAutofit/>
          </a:bodyPr>
          <a:p>
            <a:pPr marL="685800" indent="-685800">
              <a:lnSpc>
                <a:spcPct val="80000"/>
              </a:lnSpc>
              <a:spcBef>
                <a:spcPts val="799"/>
              </a:spcBef>
              <a:buClr>
                <a:srgbClr val="3e310f"/>
              </a:buClr>
              <a:buFont typeface="Arial Rounded MT Bold"/>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búsqueda electrónica es la forma más rápida de conseguir patrocinadores.</a:t>
            </a:r>
            <a:endParaRPr b="0" lang="en-US" sz="32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Google.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tgci.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wsp.org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iav.nl/knowhow/index.html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rhgateway.org </a:t>
            </a:r>
            <a:endParaRPr b="0" lang="en-US" sz="3100" spc="-1" strike="noStrike">
              <a:solidFill>
                <a:srgbClr val="3e310f"/>
              </a:solidFill>
              <a:latin typeface="Georgia"/>
            </a:endParaRPr>
          </a:p>
        </p:txBody>
      </p:sp>
      <p:sp>
        <p:nvSpPr>
          <p:cNvPr id="123" name=""/>
          <p:cNvSpPr/>
          <p:nvPr/>
        </p:nvSpPr>
        <p:spPr>
          <a:xfrm>
            <a:off x="2438280" y="1828800"/>
            <a:ext cx="60962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609120"/>
            <a:ext cx="6096240" cy="12956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Cómo encontrar patrocinadores </a:t>
            </a:r>
            <a:br>
              <a:rPr sz="4000"/>
            </a:br>
            <a:r>
              <a:rPr b="0" lang="es-ES" sz="4000" spc="-1" strike="noStrike">
                <a:solidFill>
                  <a:srgbClr val="3366cc"/>
                </a:solidFill>
                <a:latin typeface="Arial Rounded MT Bold"/>
              </a:rPr>
              <a:t>para su comunidad?</a:t>
            </a:r>
            <a:endParaRPr b="0" lang="en-US" sz="4000" spc="-1" strike="noStrike">
              <a:solidFill>
                <a:srgbClr val="594717"/>
              </a:solidFill>
              <a:latin typeface="Impact"/>
            </a:endParaRPr>
          </a:p>
        </p:txBody>
      </p:sp>
      <p:sp>
        <p:nvSpPr>
          <p:cNvPr id="125" name="PlaceHolder 2"/>
          <p:cNvSpPr>
            <a:spLocks noGrp="1"/>
          </p:cNvSpPr>
          <p:nvPr>
            <p:ph type="subTitle"/>
          </p:nvPr>
        </p:nvSpPr>
        <p:spPr>
          <a:xfrm>
            <a:off x="1143000" y="2285640"/>
            <a:ext cx="6781680" cy="4267080"/>
          </a:xfrm>
          <a:prstGeom prst="rect">
            <a:avLst/>
          </a:prstGeom>
          <a:noFill/>
          <a:ln w="0">
            <a:noFill/>
          </a:ln>
        </p:spPr>
        <p:txBody>
          <a:bodyPr lIns="90000" rIns="90000" tIns="46800" bIns="46800" anchor="t">
            <a:noAutofit/>
          </a:bodyPr>
          <a:p>
            <a:pPr marL="685800" indent="-685800">
              <a:lnSpc>
                <a:spcPct val="7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Guías de recursos con posibles donantes:</a:t>
            </a:r>
            <a:endParaRPr b="0" lang="en-US" sz="3200" spc="-1" strike="noStrike">
              <a:solidFill>
                <a:srgbClr val="3e310f"/>
              </a:solidFill>
              <a:latin typeface="Georgia"/>
            </a:endParaRPr>
          </a:p>
          <a:p>
            <a:pPr marL="68580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Flanagan, Joan. </a:t>
            </a:r>
            <a:r>
              <a:rPr b="1" i="1" lang="en-US" sz="2400" spc="-1" strike="noStrike">
                <a:solidFill>
                  <a:srgbClr val="3e310f"/>
                </a:solidFill>
                <a:latin typeface="Times New Roman"/>
              </a:rPr>
              <a:t>The Grassroots Fundraising Book</a:t>
            </a:r>
            <a:r>
              <a:rPr b="1" lang="en-US" sz="2400" spc="-1" strike="noStrike">
                <a:solidFill>
                  <a:srgbClr val="3e310f"/>
                </a:solidFill>
                <a:latin typeface="Times New Roman"/>
              </a:rPr>
              <a:t>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Hartley, Cathy (ed.) </a:t>
            </a:r>
            <a:r>
              <a:rPr b="1" i="1" lang="en-US" sz="2400" spc="-1" strike="noStrike">
                <a:solidFill>
                  <a:srgbClr val="3e310f"/>
                </a:solidFill>
                <a:latin typeface="Times New Roman"/>
              </a:rPr>
              <a:t>The International Foundation Directory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Zils, Michael (ed.) </a:t>
            </a:r>
            <a:r>
              <a:rPr b="1" i="1" lang="en-US" sz="2400" spc="-1" strike="noStrike">
                <a:solidFill>
                  <a:srgbClr val="3e310f"/>
                </a:solidFill>
                <a:latin typeface="Times New Roman"/>
              </a:rPr>
              <a:t>World Guide to Foundations</a:t>
            </a:r>
            <a:r>
              <a:rPr b="1" lang="en-US" sz="2400" spc="-1" strike="noStrike">
                <a:solidFill>
                  <a:srgbClr val="3e310f"/>
                </a:solidFill>
                <a:latin typeface="Times New Roman"/>
              </a:rPr>
              <a:t>, 2nd ed.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Taniguchi, Jason (ed.) </a:t>
            </a:r>
            <a:r>
              <a:rPr b="1" i="1" lang="en-US" sz="2400" spc="-1" strike="noStrike">
                <a:solidFill>
                  <a:srgbClr val="3e310f"/>
                </a:solidFill>
                <a:latin typeface="Times New Roman"/>
              </a:rPr>
              <a:t>Canadian Directory to Foundations and Grants</a:t>
            </a:r>
            <a:r>
              <a:rPr b="1" lang="en-US" sz="2400" spc="-1" strike="noStrike">
                <a:solidFill>
                  <a:srgbClr val="3e310f"/>
                </a:solidFill>
                <a:latin typeface="Times New Roman"/>
              </a:rPr>
              <a:t>, 16th ed.</a:t>
            </a:r>
            <a:endParaRPr b="0" lang="en-US" sz="2400" spc="-1" strike="noStrike">
              <a:solidFill>
                <a:srgbClr val="3e310f"/>
              </a:solidFill>
              <a:latin typeface="Georgia"/>
            </a:endParaRPr>
          </a:p>
        </p:txBody>
      </p:sp>
      <p:sp>
        <p:nvSpPr>
          <p:cNvPr id="126" name=""/>
          <p:cNvSpPr/>
          <p:nvPr/>
        </p:nvSpPr>
        <p:spPr>
          <a:xfrm>
            <a:off x="1828800" y="1905120"/>
            <a:ext cx="5334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304560"/>
            <a:ext cx="640080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Qué hacer con la información obtenida</a:t>
            </a:r>
            <a:endParaRPr b="0" lang="en-US" sz="3600" spc="-1" strike="noStrike">
              <a:solidFill>
                <a:srgbClr val="594717"/>
              </a:solidFill>
              <a:latin typeface="Impact"/>
            </a:endParaRPr>
          </a:p>
        </p:txBody>
      </p:sp>
      <p:sp>
        <p:nvSpPr>
          <p:cNvPr id="128" name="PlaceHolder 2"/>
          <p:cNvSpPr>
            <a:spLocks noGrp="1"/>
          </p:cNvSpPr>
          <p:nvPr>
            <p:ph/>
          </p:nvPr>
        </p:nvSpPr>
        <p:spPr>
          <a:xfrm>
            <a:off x="1447560" y="1752480"/>
            <a:ext cx="7467480" cy="464832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Haga un primer contacto con la fuente de recursos.</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uando descubre que una fuente de recursos, tiene interés en proyectos similares al suyo, escriba una carta pidiendo información.</a:t>
            </a:r>
            <a:endParaRPr b="0" lang="en-US" sz="3600" spc="-1" strike="noStrike">
              <a:solidFill>
                <a:srgbClr val="3e310f"/>
              </a:solidFill>
              <a:latin typeface="Georgia"/>
            </a:endParaRPr>
          </a:p>
        </p:txBody>
      </p:sp>
      <p:sp>
        <p:nvSpPr>
          <p:cNvPr id="129" name=""/>
          <p:cNvSpPr/>
          <p:nvPr/>
        </p:nvSpPr>
        <p:spPr>
          <a:xfrm>
            <a:off x="2057400" y="160020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480" y="1752120"/>
            <a:ext cx="7467840" cy="4496040"/>
          </a:xfrm>
          <a:prstGeom prst="rect">
            <a:avLst/>
          </a:prstGeom>
          <a:noFill/>
          <a:ln w="0">
            <a:noFill/>
          </a:ln>
        </p:spPr>
        <p:txBody>
          <a:bodyPr lIns="90000" rIns="90000" tIns="46800" bIns="46800" anchor="t">
            <a:normAutofit/>
          </a:bodyPr>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introduc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descripción de su organiza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na declaración de su necesidad.</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Descripción del método a utilizar.</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Breve descripción de otras fuentes    de recursos que patrocinarán su proyecto.</a:t>
            </a:r>
            <a:endParaRPr b="0" lang="en-US" sz="3200" spc="-1" strike="noStrike">
              <a:solidFill>
                <a:srgbClr val="3e310f"/>
              </a:solidFill>
              <a:latin typeface="Georgia"/>
            </a:endParaRPr>
          </a:p>
        </p:txBody>
      </p:sp>
      <p:sp>
        <p:nvSpPr>
          <p:cNvPr id="131" name="PlaceHolder 2"/>
          <p:cNvSpPr>
            <a:spLocks noGrp="1"/>
          </p:cNvSpPr>
          <p:nvPr>
            <p:ph type="title"/>
          </p:nvPr>
        </p:nvSpPr>
        <p:spPr>
          <a:xfrm>
            <a:off x="1980720" y="304560"/>
            <a:ext cx="6782040" cy="106668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Rounded MT Bold"/>
              </a:rPr>
              <a:t>3. </a:t>
            </a:r>
            <a:r>
              <a:rPr b="0" lang="en-US" sz="3600" spc="-1" strike="noStrike">
                <a:solidFill>
                  <a:srgbClr val="3366cc"/>
                </a:solidFill>
                <a:latin typeface="Arial Rounded MT Bold"/>
              </a:rPr>
              <a:t>	</a:t>
            </a:r>
            <a:r>
              <a:rPr b="0" lang="es-ES" sz="3600" spc="-1" strike="noStrike">
                <a:solidFill>
                  <a:srgbClr val="3366cc"/>
                </a:solidFill>
                <a:latin typeface="Arial Rounded MT Bold"/>
              </a:rPr>
              <a:t>La carta solicitando </a:t>
            </a:r>
            <a:r>
              <a:rPr b="0" lang="es-ES" sz="3600" spc="-1" strike="noStrike">
                <a:solidFill>
                  <a:srgbClr val="3366cc"/>
                </a:solidFill>
                <a:latin typeface="Arial Rounded MT Bold"/>
              </a:rPr>
              <a:t>	</a:t>
            </a:r>
            <a:r>
              <a:rPr b="0" lang="es-ES" sz="3600" spc="-1" strike="noStrike">
                <a:solidFill>
                  <a:srgbClr val="3366cc"/>
                </a:solidFill>
                <a:latin typeface="Arial Rounded MT Bold"/>
              </a:rPr>
              <a:t>información incluirá:</a:t>
            </a:r>
            <a:endParaRPr b="0" lang="en-US" sz="3600" spc="-1" strike="noStrike">
              <a:solidFill>
                <a:srgbClr val="594717"/>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36800" y="4568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Aplicación Práctica</a:t>
            </a:r>
            <a:endParaRPr b="0" lang="en-US" sz="3600" spc="-1" strike="noStrike">
              <a:solidFill>
                <a:srgbClr val="594717"/>
              </a:solidFill>
              <a:latin typeface="Impact"/>
            </a:endParaRPr>
          </a:p>
        </p:txBody>
      </p:sp>
      <p:sp>
        <p:nvSpPr>
          <p:cNvPr id="133"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sted ha reunido su equipo. </a:t>
            </a:r>
            <a:endParaRPr b="0" lang="en-US" sz="3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Ya tiene decidido el proyecto que desea desarrollar. </a:t>
            </a:r>
            <a:endParaRPr b="0" lang="en-US" sz="3200" spc="-1" strike="noStrike">
              <a:solidFill>
                <a:srgbClr val="3e310f"/>
              </a:solidFill>
              <a:latin typeface="Georgia"/>
            </a:endParaRPr>
          </a:p>
          <a:p>
            <a:pPr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 completado su plan de estrategia. </a:t>
            </a:r>
            <a:endParaRPr b="0" lang="en-US" sz="3200" spc="-1" strike="noStrike">
              <a:solidFill>
                <a:srgbClr val="3e310f"/>
              </a:solidFill>
              <a:latin typeface="Georgia"/>
            </a:endParaRPr>
          </a:p>
          <a:p>
            <a:pPr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e310f"/>
                </a:solidFill>
                <a:latin typeface="Arial Rounded MT Bold"/>
              </a:rPr>
              <a:t>	</a:t>
            </a: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Tiene a su disposición varias hojas guías con nombres de posibles patrocinadores y las hojas con la lista del Banco de Datos. Haga una lista con los recursos que necesitará, y ¡Comience sus contactos!</a:t>
            </a:r>
            <a:endParaRPr b="0" lang="en-US" sz="3200" spc="-1" strike="noStrike">
              <a:solidFill>
                <a:srgbClr val="3e310f"/>
              </a:solidFill>
              <a:latin typeface="Georgia"/>
            </a:endParaRPr>
          </a:p>
        </p:txBody>
      </p:sp>
      <p:sp>
        <p:nvSpPr>
          <p:cNvPr id="134" name=""/>
          <p:cNvSpPr/>
          <p:nvPr/>
        </p:nvSpPr>
        <p:spPr>
          <a:xfrm>
            <a:off x="2590920" y="1143000"/>
            <a:ext cx="59436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380520"/>
            <a:ext cx="76201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66cc"/>
                </a:solidFill>
                <a:latin typeface="Arial Rounded MT Bold"/>
              </a:rPr>
              <a:t>Cierre</a:t>
            </a:r>
            <a:endParaRPr b="0" lang="en-US" sz="5400" spc="-1" strike="noStrike">
              <a:solidFill>
                <a:srgbClr val="594717"/>
              </a:solidFill>
              <a:latin typeface="Impact"/>
            </a:endParaRPr>
          </a:p>
        </p:txBody>
      </p:sp>
      <p:sp>
        <p:nvSpPr>
          <p:cNvPr id="136" name="PlaceHolder 2"/>
          <p:cNvSpPr>
            <a:spLocks noGrp="1"/>
          </p:cNvSpPr>
          <p:nvPr>
            <p:ph/>
          </p:nvPr>
        </p:nvSpPr>
        <p:spPr>
          <a:xfrm>
            <a:off x="1752480" y="2209320"/>
            <a:ext cx="6858000" cy="3581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Oramos para que Dios las guíe en la senda que él tiene trazada para nosotras. Él es un Dios todopoderoso, el autor de “toda buena dádiva y de todo don perfecto. . .” </a:t>
            </a:r>
            <a:endParaRPr b="0" lang="en-US" sz="2800" spc="-1" strike="noStrike">
              <a:solidFill>
                <a:srgbClr val="3e310f"/>
              </a:solidFill>
              <a:latin typeface="Georg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rPr>
              <a:t>(Santiago 1:17)</a:t>
            </a:r>
            <a:endParaRPr b="0" lang="en-US" sz="2400" spc="-1" strike="noStrike">
              <a:solidFill>
                <a:srgbClr val="3e310f"/>
              </a:solidFill>
              <a:latin typeface="Georgia"/>
            </a:endParaRPr>
          </a:p>
        </p:txBody>
      </p:sp>
      <p:sp>
        <p:nvSpPr>
          <p:cNvPr id="137" name=""/>
          <p:cNvSpPr/>
          <p:nvPr/>
        </p:nvSpPr>
        <p:spPr>
          <a:xfrm>
            <a:off x="1981080" y="175248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66cc"/>
                </a:solidFill>
                <a:latin typeface="Arial Rounded MT Bold"/>
              </a:rPr>
              <a:t>Cómo descubrir y utilizar recursos de la comunidad para las mujeres</a:t>
            </a:r>
            <a:endParaRPr b="0" lang="en-US" sz="3000" spc="-1" strike="noStrike">
              <a:solidFill>
                <a:srgbClr val="594717"/>
              </a:solidFill>
              <a:latin typeface="Impact"/>
            </a:endParaRPr>
          </a:p>
        </p:txBody>
      </p:sp>
      <p:sp>
        <p:nvSpPr>
          <p:cNvPr id="91" name="PlaceHolder 2"/>
          <p:cNvSpPr>
            <a:spLocks noGrp="1"/>
          </p:cNvSpPr>
          <p:nvPr>
            <p:ph/>
          </p:nvPr>
        </p:nvSpPr>
        <p:spPr>
          <a:xfrm>
            <a:off x="1599840" y="2514600"/>
            <a:ext cx="5715000" cy="1828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Cómo encontrar recursos para los proyectos de los Ministerios de la Mujer?</a:t>
            </a:r>
            <a:endParaRPr b="0" lang="en-US" sz="3200" spc="-1" strike="noStrike">
              <a:solidFill>
                <a:srgbClr val="3e310f"/>
              </a:solidFill>
              <a:latin typeface="Georgia"/>
            </a:endParaRPr>
          </a:p>
        </p:txBody>
      </p:sp>
      <p:sp>
        <p:nvSpPr>
          <p:cNvPr id="92" name=""/>
          <p:cNvSpPr/>
          <p:nvPr/>
        </p:nvSpPr>
        <p:spPr>
          <a:xfrm>
            <a:off x="2133720" y="1600200"/>
            <a:ext cx="647676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66cc"/>
                </a:solidFill>
                <a:latin typeface="Arial Rounded MT Bold"/>
              </a:rPr>
              <a:t>¿Por Dónde Comenzamos?</a:t>
            </a:r>
            <a:endParaRPr b="0" lang="en-US" sz="3000" spc="-1" strike="noStrike">
              <a:solidFill>
                <a:srgbClr val="594717"/>
              </a:solidFill>
              <a:latin typeface="Impact"/>
            </a:endParaRPr>
          </a:p>
        </p:txBody>
      </p:sp>
      <p:sp>
        <p:nvSpPr>
          <p:cNvPr id="94" name="PlaceHolder 2"/>
          <p:cNvSpPr>
            <a:spLocks noGrp="1"/>
          </p:cNvSpPr>
          <p:nvPr>
            <p:ph/>
          </p:nvPr>
        </p:nvSpPr>
        <p:spPr>
          <a:xfrm>
            <a:off x="762120" y="1523880"/>
            <a:ext cx="8153280" cy="5029200"/>
          </a:xfrm>
          <a:prstGeom prst="rect">
            <a:avLst/>
          </a:prstGeom>
          <a:noFill/>
          <a:ln w="0">
            <a:noFill/>
          </a:ln>
        </p:spPr>
        <p:txBody>
          <a:bodyPr lIns="90000" rIns="90000" tIns="46800" bIns="46800" anchor="t">
            <a:normAutofit/>
          </a:bodyPr>
          <a:p>
            <a:pPr marL="68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e310f"/>
              </a:solidFill>
              <a:latin typeface="Georgia"/>
            </a:endParaRPr>
          </a:p>
          <a:p>
            <a:pPr marL="685800" indent="-685800">
              <a:lnSpc>
                <a:spcPct val="100000"/>
              </a:lnSpc>
              <a:spcBef>
                <a:spcPts val="700"/>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e310f"/>
                </a:solidFill>
                <a:latin typeface="Arial Rounded MT Bold"/>
              </a:rPr>
              <a:t>Comprender los diferentes tipos de recursos. Los recursos que ayudan, apoyan o contribuyen a que los Ministerios de la Mujer alcancen sus blancos incluyen:</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Recursos humanos (voluntario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Asistencia técnica, tutore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Espacio</a:t>
            </a:r>
            <a:endParaRPr b="0" lang="en-US" sz="2000" spc="-1" strike="noStrike">
              <a:solidFill>
                <a:srgbClr val="3e310f"/>
              </a:solidFill>
              <a:latin typeface="Georgia"/>
            </a:endParaRPr>
          </a:p>
          <a:p>
            <a:pPr lvl="1" marL="10666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p:txBody>
      </p:sp>
      <p:sp>
        <p:nvSpPr>
          <p:cNvPr id="95" name=""/>
          <p:cNvSpPr/>
          <p:nvPr/>
        </p:nvSpPr>
        <p:spPr>
          <a:xfrm>
            <a:off x="2666880" y="1447920"/>
            <a:ext cx="58676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0" y="152280"/>
            <a:ext cx="22096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97" name="PlaceHolder 2"/>
          <p:cNvSpPr>
            <a:spLocks noGrp="1"/>
          </p:cNvSpPr>
          <p:nvPr>
            <p:ph/>
          </p:nvPr>
        </p:nvSpPr>
        <p:spPr>
          <a:xfrm>
            <a:off x="1599840" y="1676520"/>
            <a:ext cx="6629400" cy="45720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Equipo (nuevo o donado)</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Materiales y comod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Información (verbal, impresa  o electrónica</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Servicio de voluntario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atrocinadores para eventos, programas o activ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ducción</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emios en dinero</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Por dónde comenzar?</a:t>
            </a:r>
            <a:endParaRPr b="0" lang="en-US" sz="4000" spc="-1" strike="noStrike">
              <a:solidFill>
                <a:srgbClr val="594717"/>
              </a:solidFill>
              <a:latin typeface="Impact"/>
            </a:endParaRPr>
          </a:p>
        </p:txBody>
      </p:sp>
      <p:sp>
        <p:nvSpPr>
          <p:cNvPr id="99" name="PlaceHolder 2"/>
          <p:cNvSpPr>
            <a:spLocks noGrp="1"/>
          </p:cNvSpPr>
          <p:nvPr>
            <p:ph/>
          </p:nvPr>
        </p:nvSpPr>
        <p:spPr>
          <a:xfrm>
            <a:off x="685440" y="2133360"/>
            <a:ext cx="8077320" cy="3276360"/>
          </a:xfrm>
          <a:prstGeom prst="rect">
            <a:avLst/>
          </a:prstGeom>
          <a:noFill/>
          <a:ln w="0">
            <a:noFill/>
          </a:ln>
        </p:spPr>
        <p:txBody>
          <a:bodyPr lIns="90000" rIns="90000" tIns="46800" bIns="46800" anchor="t">
            <a:normAutofit/>
          </a:bodyPr>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Revise sus necesidades.</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Priorice la lista.</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ga una segunda lista de organizaciones que proveerán los servicios que usted necesita.</a:t>
            </a:r>
            <a:endParaRPr b="0" lang="en-US" sz="3200" spc="-1" strike="noStrike">
              <a:solidFill>
                <a:srgbClr val="3e310f"/>
              </a:solidFill>
              <a:latin typeface="Georgia"/>
            </a:endParaRPr>
          </a:p>
        </p:txBody>
      </p:sp>
      <p:sp>
        <p:nvSpPr>
          <p:cNvPr id="100" name=""/>
          <p:cNvSpPr/>
          <p:nvPr/>
        </p:nvSpPr>
        <p:spPr>
          <a:xfrm>
            <a:off x="2362320" y="1523880"/>
            <a:ext cx="61722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3960" y="152280"/>
            <a:ext cx="19810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102" name="PlaceHolder 2"/>
          <p:cNvSpPr>
            <a:spLocks noGrp="1"/>
          </p:cNvSpPr>
          <p:nvPr>
            <p:ph/>
          </p:nvPr>
        </p:nvSpPr>
        <p:spPr>
          <a:xfrm>
            <a:off x="685800" y="1676520"/>
            <a:ext cx="8229600" cy="4572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e310f"/>
                </a:solidFill>
                <a:uFillTx/>
                <a:latin typeface="Arial Rounded MT Bold"/>
                <a:ea typeface="Times New Roman"/>
              </a:rPr>
              <a:t>Resultados encuesta</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u="sng">
                <a:solidFill>
                  <a:srgbClr val="3e310f"/>
                </a:solidFill>
                <a:uFillTx/>
                <a:latin typeface="Arial Rounded MT Bold"/>
                <a:ea typeface="Times New Roman"/>
              </a:rPr>
              <a:t>Recursos</a:t>
            </a:r>
            <a:endParaRPr b="0" lang="en-US" sz="28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seo dejar de fumar</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Liga contra el cáncer</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o puedo leer bien</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Programa de alfabetización</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ificultad pagar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udas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Clases sobre administración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de recursos</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Soy víctima de abuso</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Juzgado de paz</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ecesito ayuda para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enfrentar una enfermedad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crónica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Hospital o dispensario</a:t>
            </a:r>
            <a:endParaRPr b="0" lang="en-US" sz="2400" spc="-1" strike="noStrike">
              <a:solidFill>
                <a:srgbClr val="3e310f"/>
              </a:solidFill>
              <a:latin typeface="Georgia"/>
            </a:endParaRPr>
          </a:p>
        </p:txBody>
      </p:sp>
      <p:sp>
        <p:nvSpPr>
          <p:cNvPr id="103" name=""/>
          <p:cNvSpPr/>
          <p:nvPr/>
        </p:nvSpPr>
        <p:spPr>
          <a:xfrm>
            <a:off x="4038480" y="24382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4" name=""/>
          <p:cNvSpPr/>
          <p:nvPr/>
        </p:nvSpPr>
        <p:spPr>
          <a:xfrm>
            <a:off x="3733920" y="2895480"/>
            <a:ext cx="609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5" name=""/>
          <p:cNvSpPr/>
          <p:nvPr/>
        </p:nvSpPr>
        <p:spPr>
          <a:xfrm>
            <a:off x="2438280" y="3733920"/>
            <a:ext cx="1828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6" name=""/>
          <p:cNvSpPr/>
          <p:nvPr/>
        </p:nvSpPr>
        <p:spPr>
          <a:xfrm>
            <a:off x="4038480" y="4572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7" name=""/>
          <p:cNvSpPr/>
          <p:nvPr/>
        </p:nvSpPr>
        <p:spPr>
          <a:xfrm>
            <a:off x="2514600" y="5867280"/>
            <a:ext cx="1905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cc"/>
                </a:solidFill>
                <a:latin typeface="Arial Rounded MT Bold"/>
              </a:rPr>
              <a:t>¿Por Dónde Comenzar?</a:t>
            </a:r>
            <a:endParaRPr b="0" lang="en-US" sz="3600" spc="-1" strike="noStrike">
              <a:solidFill>
                <a:srgbClr val="594717"/>
              </a:solidFill>
              <a:latin typeface="Impact"/>
            </a:endParaRPr>
          </a:p>
        </p:txBody>
      </p:sp>
      <p:sp>
        <p:nvSpPr>
          <p:cNvPr id="109" name="PlaceHolder 2"/>
          <p:cNvSpPr>
            <a:spLocks noGrp="1"/>
          </p:cNvSpPr>
          <p:nvPr>
            <p:ph/>
          </p:nvPr>
        </p:nvSpPr>
        <p:spPr>
          <a:xfrm>
            <a:off x="914400" y="1828440"/>
            <a:ext cx="7772400" cy="4724280"/>
          </a:xfrm>
          <a:prstGeom prst="rect">
            <a:avLst/>
          </a:prstGeom>
          <a:noFill/>
          <a:ln w="0">
            <a:noFill/>
          </a:ln>
        </p:spPr>
        <p:txBody>
          <a:bodyPr lIns="90000" rIns="90000" tIns="46800" bIns="46800" anchor="t">
            <a:normAutofit/>
          </a:bodyPr>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Revise los resultados de su encuesta a la comunidad.</a:t>
            </a:r>
            <a:endParaRPr b="0" lang="en-US" sz="2800" spc="-1" strike="noStrike">
              <a:solidFill>
                <a:srgbClr val="3e310f"/>
              </a:solidFill>
              <a:latin typeface="Georgia"/>
            </a:endParaRPr>
          </a:p>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vea para sus necesidades con recursos de la comunidad.</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Podría suceder que no encuentre recursos para cubrir sus necesidades identificadas en la encuesta.</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Tome nota de esto, usted puede llegar a proveer los recursos.</a:t>
            </a:r>
            <a:endParaRPr b="0" lang="en-US" sz="2800" spc="-1" strike="noStrike">
              <a:solidFill>
                <a:srgbClr val="3e310f"/>
              </a:solidFill>
              <a:latin typeface="Georgia"/>
            </a:endParaRPr>
          </a:p>
        </p:txBody>
      </p:sp>
      <p:sp>
        <p:nvSpPr>
          <p:cNvPr id="110" name=""/>
          <p:cNvSpPr/>
          <p:nvPr/>
        </p:nvSpPr>
        <p:spPr>
          <a:xfrm>
            <a:off x="2666880" y="1295280"/>
            <a:ext cx="5715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837720"/>
            <a:ext cx="67057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Recursos para las Necesidades Identificadas</a:t>
            </a:r>
            <a:endParaRPr b="0" lang="en-US" sz="3600" spc="-1" strike="noStrike">
              <a:solidFill>
                <a:srgbClr val="594717"/>
              </a:solidFill>
              <a:latin typeface="Impact"/>
            </a:endParaRPr>
          </a:p>
        </p:txBody>
      </p:sp>
      <p:sp>
        <p:nvSpPr>
          <p:cNvPr id="112" name="PlaceHolder 2"/>
          <p:cNvSpPr>
            <a:spLocks noGrp="1"/>
          </p:cNvSpPr>
          <p:nvPr>
            <p:ph/>
          </p:nvPr>
        </p:nvSpPr>
        <p:spPr>
          <a:xfrm>
            <a:off x="685440" y="1904760"/>
            <a:ext cx="7924680" cy="518148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Evalúe los recursos en su congregación.</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onstruya recursos con participantes de la comunidad.</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las deficiencias de servicios.</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3" name=""/>
          <p:cNvSpPr/>
          <p:nvPr/>
        </p:nvSpPr>
        <p:spPr>
          <a:xfrm>
            <a:off x="1828800" y="1905120"/>
            <a:ext cx="6858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920"/>
            <a:ext cx="70866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cc"/>
                </a:solidFill>
                <a:latin typeface="Arial Rounded MT Bold"/>
              </a:rPr>
              <a:t>Cómo Encontrar Recursos para las Necesidades Identificadas</a:t>
            </a:r>
            <a:endParaRPr b="0" lang="en-US" sz="3200" spc="-1" strike="noStrike">
              <a:solidFill>
                <a:srgbClr val="594717"/>
              </a:solidFill>
              <a:latin typeface="Impact"/>
            </a:endParaRPr>
          </a:p>
        </p:txBody>
      </p:sp>
      <p:sp>
        <p:nvSpPr>
          <p:cNvPr id="115" name="PlaceHolder 2"/>
          <p:cNvSpPr>
            <a:spLocks noGrp="1"/>
          </p:cNvSpPr>
          <p:nvPr>
            <p:ph/>
          </p:nvPr>
        </p:nvSpPr>
        <p:spPr>
          <a:xfrm>
            <a:off x="1066320" y="1828800"/>
            <a:ext cx="7543800" cy="457200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recursos que puedan satisfacer las necesidades de los proyectos de los MM.</a:t>
            </a:r>
            <a:endParaRPr b="0" lang="en-US" sz="3600" spc="-1" strike="noStrike">
              <a:solidFill>
                <a:srgbClr val="3e310f"/>
              </a:solidFill>
              <a:latin typeface="Georgia"/>
            </a:endParaRPr>
          </a:p>
          <a:p>
            <a:pPr marL="68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Desarrolle un formulario: Banco de datos de</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	</a:t>
            </a:r>
            <a:r>
              <a:rPr b="0" lang="es-ES" sz="3600" spc="-1" strike="noStrike">
                <a:solidFill>
                  <a:srgbClr val="3e310f"/>
                </a:solidFill>
                <a:latin typeface="Arial Rounded MT Bold"/>
              </a:rPr>
              <a:t>recursos.</a:t>
            </a:r>
            <a:endParaRPr b="0" lang="en-US" sz="3600" spc="-1" strike="noStrike">
              <a:solidFill>
                <a:srgbClr val="3e310f"/>
              </a:solidFill>
              <a:latin typeface="Georgi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6" name=""/>
          <p:cNvSpPr/>
          <p:nvPr/>
        </p:nvSpPr>
        <p:spPr>
          <a:xfrm>
            <a:off x="2133720" y="1600200"/>
            <a:ext cx="632448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1:06Z</dcterms:created>
  <dc:creator>Roland J. Penner</dc:creator>
  <dc:description/>
  <cp:keywords/>
  <dc:language>en-US</dc:language>
  <cp:lastModifiedBy>Nelida Leguizamon</cp:lastModifiedBy>
  <dcterms:modified xsi:type="dcterms:W3CDTF">2006-06-12T11:47:18Z</dcterms:modified>
  <cp:revision>23</cp:revision>
  <dc:subject> </dc:subject>
  <dc:title>Assessing and Using Community Resources for Women</dc:title>
</cp:coreProperties>
</file>